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0DB9A2-5CEE-4771-A05E-5A17B89D2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0DC630-729E-4DA4-BCA3-322DE55AAB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81AEDD-5334-4DA5-9DB5-DA8D2D159F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ditions must be ruled out before a diagnosis of osteomyelitis can be m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is most likely to be susceptible to osteomyel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infants and children, osteomyelitis can develop as a secondary infection from what cond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233E81-3F70-4F81-8536-660D7C371A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a of the body does gout typically a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etary modifications can help in treatment of g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kidney function related to g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BE5576-7B7F-4962-9EB1-ACB0D0C21B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ry products have been shown to reduce frequency of gouty arthrit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 can be acute and severe with mild systemic symp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with pain medication is urgent with gouty arthrit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76B657-532E-40BF-A672-A022BEDC6C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osteoporosis classified as a metabolic bon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some of the possible causes of osteopor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osteoporosis called a “silent”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groups are most at risk and should have annual bone density te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B490AF-0B4F-4CBF-8577-9B0AB17A75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ossible causes of osteomalac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osteomalacia and rick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ship of vitamin D to osteomalacia and rick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A24125-A3FA-4542-8C0E-F0978C7776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f the possible causes of bun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rthrodesis and arthroplas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ole does footwear play in treatment of bunions and rigid big to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BB7BE6-A3DB-4BAD-8A8F-DCBC2129E8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functionality of skeletal tissues. (Refer to Fig. 7-6, p. 2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njury to a tendon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fascia and bursa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cartilag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7E3506-918C-4DC4-B5BC-51BE9B15B2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different types of fractures (Refer to Fig. 7-25 pp. 305, 3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some of the technologies used in diagnosing fra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immobilization techniqu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523929-BF72-41B5-870B-FC40839C1B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differences between strains and sp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considered the more serious inju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ymptoms do strains and sprains have in comm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cute and chronic trau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ong does it normally take for strains and sprains to he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A038B4-1310-41CE-AF4C-EA62571739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f the possible causes of lord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cheuermann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robable cause of hunchback in older persons and post-menopausal wom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ge and gender group is most likely to develop scoli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997C49-5156-48FC-9601-5A371CA66A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form of arthr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ich parts of the body does osteoarthritis usually appe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osteoarthritis such a growing problem to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advertising for today’s prescription and OTC arthritis dru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239EEF-B607-404C-8FA2-3DCC9C31FB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as of the body can be affected by Lym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ecautions can be taken to help prevent Lym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methods of removing tic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seases can Lyme disease be mistaken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0" y="63849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sevier items and derived items © 2009 by Saunders, an imprint of Elsevier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Essentials of Human Diseases and Conditions </a:t>
            </a:r>
            <a:br>
              <a:rPr sz="40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garet Schell Fraz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nette Wist Drzymkows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yme Disea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al of 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l 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venous 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rest and physical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tick bites by wearing long clo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 clothes and body for ti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steomyeliti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steomyelit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 serious infection of bone that requires aggressive antibiotic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d by bacterial organisms, viruses, and fun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zed by inflammation, swelling, redness, pain, localized heat, and tender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steomyel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-term antibiotic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intake of proteins and vitamins A, B, and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 of chronic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obilization of affected 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ou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u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hronic disorder of uric acid metabolism that manifests an acute, episodic form of art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production or decreased excretion of u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levels of uric acid in the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levels of uric acid in synovial fluid in joints and t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o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rest to reduce pressure on affected j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of ice to inflamed j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SAIDs and corticostero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-purine diet and frequent fluid in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hyperuricemic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steopor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steopor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ondition characterized by loss of normal bone mass and density due to imbalance between breakdown of old bone tissue and manufacture of new 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steoporo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ymptomatic until bone brea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taneous fractures and loss of height are the most common sig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intake of calcium and vitamin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rogen replacement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sphosphonate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rate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steomalac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steomalac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isease characterized by a defective mineralization of the bones, causing them to become soft, flexible, and de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osteomalacia occurs in children, it affects the growing skeleton and is called ri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steomalac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fati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cle weak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essive stiff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nder, painful b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tamin D supp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vitamin D, calcium, and calcitonin to di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sure to sunl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allus Valgus &amp; Hallus Rigidu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llus Valgus (Bunion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localized area of enlargement of the inner portion of the metatarsophalangeal (MTP) joint at the base of the big t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keletal tissu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ament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ugh, dense, fibrous bands of connective tissue that hold bones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d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rong, tough cords of dense connective tissue that usually attach muscle to 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tilag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mi-smooth, dense, supporting connective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allus Valgu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ful bun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TP joint becomes stiff, painful, and swo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ring shoes with more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of 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-inflammatory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aumatic and Sports Injuri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ctures (broken bones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used by stress on the bones resulting from a traumatic insult to the musculoskeletal system, severe muscle spasm, or bone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aumatic and Sports Injuri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treatment of fractures depends on location, severity, type, and ca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fracture of long bone: reduction and im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fracture: cleaning, debriding, reduction, im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l fixation (open redu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aumatic and Sports Injuri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0" name="Picture 8" descr="W0256-07-25a-l"/>
          <p:cNvPicPr/>
          <p:nvPr/>
        </p:nvPicPr>
        <p:blipFill>
          <a:blip r:embed="rId1"/>
          <a:stretch/>
        </p:blipFill>
        <p:spPr>
          <a:xfrm>
            <a:off x="3154320" y="1465200"/>
            <a:ext cx="283536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aumatic and Sports Injurie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i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jured tendons, muscles or other tissues resulting from overuse, overstretching, or excessive forcible stretching of the tissue beyond its functional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rai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ute partial tears of a lig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ion and rest of affected li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obilization with elastic band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of 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gesics and anti-inflammatory ag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eatment of Strains and Sprai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 exaggerated inward curvature of the sp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yph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 abnormal outward curvature of the sp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oli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lateral (sideways) curvature of the sp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jor Spinal Disord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es to strengthen abd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lvic tilt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ordosis - Treatment Op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s to strengthen muscles and liga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 brace to stabilize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nal fusion and temporary immob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ebropla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yphosis - Treatment Op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 to strengthen weak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 b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ion of the vertebr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oliosis - Treatment Op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steoarthriti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teoarthrit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reakdown and eventual loss of cartilage of one or more j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ing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d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j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diseases such as diabetes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be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steoart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ur formations on fin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eneration of spinal vertebrae and pelvic j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graphic testing to exclude other ca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inflammation, minimize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yme Disease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yme diseas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infectious bacteriological disease spread by deer tick b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sed by the bacterium Borrelia burgdorfe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acterized by red, itchy rash with a red circle center (“bull’s-eye” ra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ten characterized by flu-like symptoms such as headache, fever, joint pain, and fati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14:59:33Z</dcterms:created>
  <dc:creator>Elaine Gillingham</dc:creator>
  <dc:description/>
  <dc:language>en-US</dc:language>
  <cp:lastModifiedBy>Student</cp:lastModifiedBy>
  <cp:lastPrinted>2005-01-18T16:30:09Z</cp:lastPrinted>
  <dcterms:modified xsi:type="dcterms:W3CDTF">2011-06-14T20:16:31Z</dcterms:modified>
  <cp:revision>728</cp:revision>
  <dc:subject/>
  <dc:title>Management Techniques for the Health Unit Coordinator</dc:title>
</cp:coreProperties>
</file>